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FCD6-EDC1-4552-AE6D-315B0DF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A57CB-B230-4809-8FEC-87D8694C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19E2-4E1E-4368-B986-C3C7CB1C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20DC-7E40-4A27-BACB-00CC625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B5B99-A611-4D0D-AAE4-6F3EE99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8F50-5792-49B9-BC58-261498E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EF636-781C-4B76-9DDA-EF514DE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2D11-FD8C-4276-91E3-E5290A6C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74A9-96AD-41B4-8BB3-58F664EE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6066-1A1E-4BAD-A3D2-BBB4E23A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2FEE-37C7-4BE0-BE63-BFF9874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D9AE-AB8D-4A00-B2CC-CF743A9B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BA459-D17E-4700-BF67-13E0D4E1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7E24-8226-4174-BBA8-7CA660D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CC05-B511-4A16-AFB9-C8CB18D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7342-021F-4A0A-AF5D-B60E6B7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5BB4-2272-4363-AF38-1224DE0D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9CE7-D750-4F6E-95D4-EAB78997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C90E-3586-4142-9C64-04573555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CCFF7-854B-4D95-AE4A-D3D8DB59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21A5E-58C5-4A9E-964A-AD8921DC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ED0D3-EBF4-4108-B6D9-47643FD3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5F92-E505-4518-90A1-11722104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4953-4580-4CCA-AE10-7D2CA61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EFF1-0382-4937-A1A2-EE94918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4BC1E-59B4-4948-A379-A7315BF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8AEA-169D-42AF-B629-E02FCB02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82B2-57C8-4432-94B7-3CFD85A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708CE-D549-436E-8241-87712B9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D5F4-ED1D-4B43-9DAF-600A5AC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5AFC9-6F82-46BC-A0EF-269359BF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69E9-08B5-4F23-AAB6-932F050B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6D279-C735-480E-B35E-170846EA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F09EA-5B9F-4F84-87A6-09F9DA9B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C86F-FD41-438A-95E1-730E15F6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90918-7C30-401C-847B-91BF8030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52BA7-D2A2-4559-B737-4EA0C48B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BE13-C56F-45DB-A55C-171740DA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E959-DF33-4DDF-88E4-03BB3BA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8106-A646-4FEA-95CB-C3BD37E2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9622-29B8-4CED-842D-7F32A61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7A30B-988F-4641-862D-4D2D893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C554-5BED-4487-A5BF-0040FC3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319DA-1F05-43DC-B9DF-5435777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FBEC-21E2-4A75-BA35-D27D7390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086ED-9C0A-4D7C-909C-1CB9F3F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F1BCC-FBE8-463C-B73F-35E7A71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51173-32C1-4A3C-85F4-B654E38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9BFF2-544D-4297-A6D7-1BF95EA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19FA5-9029-4843-87FD-404A15D9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B6C34-6993-45EA-ABAF-6B78E28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5F778-5A71-4E05-B135-E4ADDAD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8886F-7DAA-4DEB-9B33-AB794C4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9FC6A-BFF1-470F-AD0D-9A3E069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61DF5-4519-4EA2-A4FD-3E970BA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F8A71-135F-4503-B918-C447B79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F84A2-0EBB-4D9B-8323-0D6C0227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1C174-7358-4EF7-AC66-5906A14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1A25-EA99-4650-8268-136DF591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DB3A2-240C-408F-A515-A2DC660F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4EECF-BE73-46E5-9F20-65450FF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4C1F4-5DBD-4E01-A282-1CC1F67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A460-E158-44ED-B81D-1C56254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D9771-D4E3-4F62-A45A-A751D57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7DD99-78B9-4EA1-86D1-E6E1651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CAA2D-7AB3-4A60-B56F-514A615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340BE-5ADD-42E9-949D-2938B82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13993-5D30-4DF2-B096-0FC95B1F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A4A80-262A-456F-A35C-50131126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0DBDE-CB96-444D-8AFA-68666195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937A4-8FCC-4851-980A-D9BA1D61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0C4BF-A9C2-4437-A8B7-54C9BDC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A5153-2B46-4874-939F-74061E94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81B15-FDA3-4DB1-A791-6683343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BD030-B8A0-4F8C-B8D0-FD89A96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5AC4-D55E-48EA-9DCB-B08087A2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A5481-6296-4A8A-9085-AB33095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4D89-46E9-4163-9F23-1DFDD93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70865-7743-41A6-AA63-05FC9C15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8640-9CDA-456D-A5E3-EA651947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AB32-12D9-44B0-AAD1-BDA0CF82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41765-8172-448E-8F2B-448EB2FC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F7397-B6E3-4574-9354-D39F414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19CB2-E36A-4872-A6FC-F02193E4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2ABDC-CB5D-4709-88DD-1DF3094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3DD6C-3222-4770-BB5B-03ED79E7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A1939-FF9B-4540-8BAA-CCD6351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7441C-C27C-453E-99B8-887D1B3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47B2A-EB29-4A13-B551-38F0BED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F57D4-F468-4CA5-B792-CC3F745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995A8-D246-455B-BF6F-93B703D6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7008-708F-4B45-932F-7DBF58A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316E8-E591-4603-B0F8-36238CC6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639-D37D-4AC1-9A0F-C54A9C4B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0F5-1E94-409D-9870-7644FCC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FAE-E31C-4188-9F27-48E0B42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A60-21A2-46DF-885C-D243FC65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867-4077-4EE5-9483-2AC40A12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5BC-8A79-4026-9E42-55C0D95A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837-59C4-457C-A861-562EF1E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C9A-F70B-4007-A81E-D970119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8C9-9289-42C1-8E12-1DCC007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31-8A27-4E1C-A6B8-89ED6E99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AAE-1CF1-4D3E-80E9-F93A971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234-D902-4897-B824-836C20D3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93C1-88C7-4D76-8837-7D027D8B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40EB-9857-4551-A4DF-3D5E591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CC18-B3AE-4EFC-ABCE-940D92A9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ED0-A4ED-4024-8132-AE2D5384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5CC4-8B76-441C-92B1-656FC4A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1FA1-3D9C-43F0-AC86-112C504E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0CB-6674-4418-BF15-9BDC3A7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50C6-4476-430C-94E2-5FA24D9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ACE1-6AC2-493F-8037-A18BDBC4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1F4A-2B4F-4F73-8842-B7D7F14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B4E-2417-4638-86B0-97D4D901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DC1C-73F7-4F68-BB53-CC9EAA0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1080-EBFB-403C-8C3A-4A65D525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52F8-21A7-410A-9100-07A3666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5B4B-DBB1-4B89-971F-5E815C6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DBE2-C8E2-4047-83FE-9AD8DF26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150C-093C-45F0-A82F-94392686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7D4A-CDD1-49B7-898A-ABF79FC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6BBC-0F4B-4981-86A9-5DEB377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B586-CFF7-44FF-B466-56E9502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AEAC-FF8F-4D5E-A583-1AAFFB9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1A2B-DBB0-4D4F-9274-563440E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4697-4BC0-430B-8B04-89ABE22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A627C-E6DF-414B-9CC9-0445465F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BCB7-446A-4CF3-B0FF-9E8011C9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969A-98A2-4656-861C-F5DCAF6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5571-6589-48B3-8844-D277F57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1FA5-B363-4AA8-A056-96B1580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1A15-75A1-458A-BBDB-CDCCE72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76CA-ED68-4B94-A2AD-E75BFC1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4C50-E896-43A1-B383-78841464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951C-D337-4216-ADE3-629405F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BD25-2360-4CD3-9A84-2DE0338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1836-1B15-4095-8CA8-91B1C79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26EBB-EAD6-46FB-99F5-0DB37F6A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826C-A189-442D-8679-8F8E0CEF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5969-E378-4405-BFF2-0177696D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3820-DB65-4333-9B7A-D44A3771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F29E-38C5-4526-9BA5-09677DD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A04C-A5C1-4581-93DC-6F23E4999C5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781-08D6-4700-BBAF-3A865922200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5DA-E61D-4D0A-913A-2EF3F731F3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18E2-AA0B-4ED4-93B8-6AE05F61AEE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78E5-CD2B-4664-9A37-EA58A2E45D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6185-F474-4C43-BA2B-92965E1AF3E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283-C946-43D9-8079-901BCF322E6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1745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73" name="组合 31746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74" name="椭圆 31747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31748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31749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1750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31751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2E92-8D5E-4980-81A1-21951ECB8A4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32769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93" name="椭圆 32770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2771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32772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32773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32774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32775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010-176A-4302-9514-DD188ABBDB9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D840-F0B1-4173-A464-38FC97DDC4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3030-4CC2-48E9-87EF-BBD195FD5A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605A-A5B0-408C-A855-7B8275FDA90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标题 1"/>
          <p:cNvSpPr/>
          <p:nvPr/>
        </p:nvSpPr>
        <p:spPr>
          <a:xfrm>
            <a:off x="1990800" y="94932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片 1" descr=""/>
          <p:cNvPicPr/>
          <p:nvPr/>
        </p:nvPicPr>
        <p:blipFill>
          <a:blip r:embed="rId1"/>
          <a:stretch/>
        </p:blipFill>
        <p:spPr>
          <a:xfrm>
            <a:off x="322200" y="309600"/>
            <a:ext cx="2454480" cy="4968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4"/>
          <p:cNvGrpSpPr/>
          <p:nvPr/>
        </p:nvGrpSpPr>
        <p:grpSpPr>
          <a:xfrm>
            <a:off x="384120" y="944640"/>
            <a:ext cx="8018640" cy="648360"/>
            <a:chOff x="384120" y="944640"/>
            <a:chExt cx="8018640" cy="648360"/>
          </a:xfrm>
        </p:grpSpPr>
        <p:pic>
          <p:nvPicPr>
            <p:cNvPr id="691" name="图片 2" descr=""/>
            <p:cNvPicPr/>
            <p:nvPr/>
          </p:nvPicPr>
          <p:blipFill>
            <a:blip r:embed="rId2"/>
            <a:stretch/>
          </p:blipFill>
          <p:spPr>
            <a:xfrm>
              <a:off x="384120" y="1068840"/>
              <a:ext cx="35028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矩形 3"/>
            <p:cNvSpPr/>
            <p:nvPr/>
          </p:nvSpPr>
          <p:spPr>
            <a:xfrm>
              <a:off x="734400" y="944640"/>
              <a:ext cx="76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猜猜下面词语的读音，再选择合适的放在句子里读一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7"/>
          <p:cNvSpPr/>
          <p:nvPr/>
        </p:nvSpPr>
        <p:spPr>
          <a:xfrm>
            <a:off x="800280" y="2081160"/>
            <a:ext cx="753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啪      唰      吱呀        嗡嗡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嘟嘟嘟  咚咚咚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哗啦哗啦    叽叽喳喳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组合 6"/>
          <p:cNvGrpSpPr/>
          <p:nvPr/>
        </p:nvGrpSpPr>
        <p:grpSpPr>
          <a:xfrm>
            <a:off x="985680" y="216000"/>
            <a:ext cx="6383520" cy="2236680"/>
            <a:chOff x="985680" y="216000"/>
            <a:chExt cx="6383520" cy="2236680"/>
          </a:xfrm>
        </p:grpSpPr>
        <p:pic>
          <p:nvPicPr>
            <p:cNvPr id="695" name="Picture 2" descr="http://pic8.nipic.com/20100728/5410988_223926041084_2.jpg"/>
            <p:cNvPicPr/>
            <p:nvPr/>
          </p:nvPicPr>
          <p:blipFill>
            <a:blip r:embed="rId1"/>
            <a:srcRect l="18506" t="19257" r="48175" b="11224"/>
            <a:stretch/>
          </p:blipFill>
          <p:spPr>
            <a:xfrm>
              <a:off x="985680" y="527400"/>
              <a:ext cx="1265040" cy="19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圆角矩形标注 3"/>
            <p:cNvSpPr/>
            <p:nvPr/>
          </p:nvSpPr>
          <p:spPr>
            <a:xfrm>
              <a:off x="2817720" y="216000"/>
              <a:ext cx="4394520" cy="1744560"/>
            </a:xfrm>
            <a:prstGeom prst="wedgeRoundRectCallout">
              <a:avLst>
                <a:gd name="adj1" fmla="val -61879"/>
                <a:gd name="adj2" fmla="val 1850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4"/>
            <p:cNvSpPr/>
            <p:nvPr/>
          </p:nvSpPr>
          <p:spPr>
            <a:xfrm>
              <a:off x="2949480" y="299880"/>
              <a:ext cx="4419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我发现这些词语都是表示声音的词语，都是带有“口”字旁的形声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矩形 7"/>
          <p:cNvSpPr/>
          <p:nvPr/>
        </p:nvSpPr>
        <p:spPr>
          <a:xfrm>
            <a:off x="685800" y="2460600"/>
            <a:ext cx="811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家都睡着了，突然响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敲门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雨不停地下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9"/>
          <p:cNvSpPr/>
          <p:nvPr/>
        </p:nvSpPr>
        <p:spPr>
          <a:xfrm>
            <a:off x="1382760" y="3419640"/>
            <a:ext cx="173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哗啦哗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0"/>
          <p:cNvSpPr/>
          <p:nvPr/>
        </p:nvSpPr>
        <p:spPr>
          <a:xfrm>
            <a:off x="5237280" y="2543040"/>
            <a:ext cx="1412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咚咚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1" descr=""/>
          <p:cNvPicPr/>
          <p:nvPr/>
        </p:nvPicPr>
        <p:blipFill>
          <a:blip r:embed="rId1"/>
          <a:stretch/>
        </p:blipFill>
        <p:spPr>
          <a:xfrm>
            <a:off x="263520" y="361800"/>
            <a:ext cx="2004840" cy="48276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79"/>
          <p:cNvGrpSpPr/>
          <p:nvPr/>
        </p:nvGrpSpPr>
        <p:grpSpPr>
          <a:xfrm>
            <a:off x="2819520" y="955800"/>
            <a:ext cx="3338280" cy="3378240"/>
            <a:chOff x="2819520" y="955800"/>
            <a:chExt cx="3338280" cy="3378240"/>
          </a:xfrm>
        </p:grpSpPr>
        <p:grpSp>
          <p:nvGrpSpPr>
            <p:cNvPr id="703" name="组合 7"/>
            <p:cNvGrpSpPr/>
            <p:nvPr/>
          </p:nvGrpSpPr>
          <p:grpSpPr>
            <a:xfrm>
              <a:off x="2819520" y="985680"/>
              <a:ext cx="836280" cy="851040"/>
              <a:chOff x="2819520" y="985680"/>
              <a:chExt cx="836280" cy="851040"/>
            </a:xfrm>
          </p:grpSpPr>
          <p:sp>
            <p:nvSpPr>
              <p:cNvPr id="704" name="矩形 1"/>
              <p:cNvSpPr/>
              <p:nvPr/>
            </p:nvSpPr>
            <p:spPr>
              <a:xfrm>
                <a:off x="281952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直接连接符 4"/>
              <p:cNvSpPr/>
              <p:nvPr/>
            </p:nvSpPr>
            <p:spPr>
              <a:xfrm>
                <a:off x="281952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直接连接符 6"/>
              <p:cNvSpPr/>
              <p:nvPr/>
            </p:nvSpPr>
            <p:spPr>
              <a:xfrm>
                <a:off x="323784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文本框 64"/>
            <p:cNvSpPr/>
            <p:nvPr/>
          </p:nvSpPr>
          <p:spPr>
            <a:xfrm>
              <a:off x="2833560" y="9558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8" name="组合 7"/>
            <p:cNvGrpSpPr/>
            <p:nvPr/>
          </p:nvGrpSpPr>
          <p:grpSpPr>
            <a:xfrm>
              <a:off x="3654360" y="985680"/>
              <a:ext cx="836280" cy="851040"/>
              <a:chOff x="3654360" y="985680"/>
              <a:chExt cx="836280" cy="851040"/>
            </a:xfrm>
          </p:grpSpPr>
          <p:sp>
            <p:nvSpPr>
              <p:cNvPr id="709" name="矩形 1"/>
              <p:cNvSpPr/>
              <p:nvPr/>
            </p:nvSpPr>
            <p:spPr>
              <a:xfrm>
                <a:off x="365436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9"/>
              <p:cNvSpPr/>
              <p:nvPr/>
            </p:nvSpPr>
            <p:spPr>
              <a:xfrm>
                <a:off x="365436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6"/>
              <p:cNvSpPr/>
              <p:nvPr/>
            </p:nvSpPr>
            <p:spPr>
              <a:xfrm>
                <a:off x="407268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文本框 64"/>
            <p:cNvSpPr/>
            <p:nvPr/>
          </p:nvSpPr>
          <p:spPr>
            <a:xfrm>
              <a:off x="3668400" y="9558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2"/>
            <p:cNvGrpSpPr/>
            <p:nvPr/>
          </p:nvGrpSpPr>
          <p:grpSpPr>
            <a:xfrm>
              <a:off x="4486680" y="985680"/>
              <a:ext cx="836280" cy="851040"/>
              <a:chOff x="4486680" y="985680"/>
              <a:chExt cx="836280" cy="851040"/>
            </a:xfrm>
          </p:grpSpPr>
          <p:sp>
            <p:nvSpPr>
              <p:cNvPr id="714" name="矩形 1"/>
              <p:cNvSpPr/>
              <p:nvPr/>
            </p:nvSpPr>
            <p:spPr>
              <a:xfrm>
                <a:off x="448668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直接连接符 14"/>
              <p:cNvSpPr/>
              <p:nvPr/>
            </p:nvSpPr>
            <p:spPr>
              <a:xfrm>
                <a:off x="448668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直接连接符 6"/>
              <p:cNvSpPr/>
              <p:nvPr/>
            </p:nvSpPr>
            <p:spPr>
              <a:xfrm>
                <a:off x="490500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组合 16"/>
            <p:cNvGrpSpPr/>
            <p:nvPr/>
          </p:nvGrpSpPr>
          <p:grpSpPr>
            <a:xfrm>
              <a:off x="5321520" y="985680"/>
              <a:ext cx="836280" cy="851040"/>
              <a:chOff x="5321520" y="985680"/>
              <a:chExt cx="836280" cy="851040"/>
            </a:xfrm>
          </p:grpSpPr>
          <p:sp>
            <p:nvSpPr>
              <p:cNvPr id="718" name="矩形 1"/>
              <p:cNvSpPr/>
              <p:nvPr/>
            </p:nvSpPr>
            <p:spPr>
              <a:xfrm>
                <a:off x="5321520" y="98568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直接连接符 18"/>
              <p:cNvSpPr/>
              <p:nvPr/>
            </p:nvSpPr>
            <p:spPr>
              <a:xfrm>
                <a:off x="5321520" y="139788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直接连接符 6"/>
              <p:cNvSpPr/>
              <p:nvPr/>
            </p:nvSpPr>
            <p:spPr>
              <a:xfrm>
                <a:off x="5739840" y="99900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7"/>
            <p:cNvGrpSpPr/>
            <p:nvPr/>
          </p:nvGrpSpPr>
          <p:grpSpPr>
            <a:xfrm>
              <a:off x="2819520" y="1818000"/>
              <a:ext cx="836280" cy="851040"/>
              <a:chOff x="2819520" y="1818000"/>
              <a:chExt cx="836280" cy="851040"/>
            </a:xfrm>
          </p:grpSpPr>
          <p:sp>
            <p:nvSpPr>
              <p:cNvPr id="722" name="矩形 1"/>
              <p:cNvSpPr/>
              <p:nvPr/>
            </p:nvSpPr>
            <p:spPr>
              <a:xfrm>
                <a:off x="281952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直接连接符 22"/>
              <p:cNvSpPr/>
              <p:nvPr/>
            </p:nvSpPr>
            <p:spPr>
              <a:xfrm>
                <a:off x="281952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直接连接符 6"/>
              <p:cNvSpPr/>
              <p:nvPr/>
            </p:nvSpPr>
            <p:spPr>
              <a:xfrm>
                <a:off x="323784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文本框 64"/>
            <p:cNvSpPr/>
            <p:nvPr/>
          </p:nvSpPr>
          <p:spPr>
            <a:xfrm>
              <a:off x="2833560" y="1787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25"/>
            <p:cNvGrpSpPr/>
            <p:nvPr/>
          </p:nvGrpSpPr>
          <p:grpSpPr>
            <a:xfrm>
              <a:off x="3654360" y="1818000"/>
              <a:ext cx="836280" cy="851040"/>
              <a:chOff x="3654360" y="1818000"/>
              <a:chExt cx="836280" cy="851040"/>
            </a:xfrm>
          </p:grpSpPr>
          <p:sp>
            <p:nvSpPr>
              <p:cNvPr id="727" name="矩形 1"/>
              <p:cNvSpPr/>
              <p:nvPr/>
            </p:nvSpPr>
            <p:spPr>
              <a:xfrm>
                <a:off x="365436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直接连接符 27"/>
              <p:cNvSpPr/>
              <p:nvPr/>
            </p:nvSpPr>
            <p:spPr>
              <a:xfrm>
                <a:off x="365436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直接连接符 6"/>
              <p:cNvSpPr/>
              <p:nvPr/>
            </p:nvSpPr>
            <p:spPr>
              <a:xfrm>
                <a:off x="407268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0" name="文本框 64"/>
            <p:cNvSpPr/>
            <p:nvPr/>
          </p:nvSpPr>
          <p:spPr>
            <a:xfrm>
              <a:off x="3668400" y="1787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群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组合 30"/>
            <p:cNvGrpSpPr/>
            <p:nvPr/>
          </p:nvGrpSpPr>
          <p:grpSpPr>
            <a:xfrm>
              <a:off x="4486680" y="1818000"/>
              <a:ext cx="836280" cy="851040"/>
              <a:chOff x="4486680" y="1818000"/>
              <a:chExt cx="836280" cy="851040"/>
            </a:xfrm>
          </p:grpSpPr>
          <p:sp>
            <p:nvSpPr>
              <p:cNvPr id="732" name="矩形 1"/>
              <p:cNvSpPr/>
              <p:nvPr/>
            </p:nvSpPr>
            <p:spPr>
              <a:xfrm>
                <a:off x="448668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32"/>
              <p:cNvSpPr/>
              <p:nvPr/>
            </p:nvSpPr>
            <p:spPr>
              <a:xfrm>
                <a:off x="448668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6"/>
              <p:cNvSpPr/>
              <p:nvPr/>
            </p:nvSpPr>
            <p:spPr>
              <a:xfrm>
                <a:off x="490500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组合 34"/>
            <p:cNvGrpSpPr/>
            <p:nvPr/>
          </p:nvGrpSpPr>
          <p:grpSpPr>
            <a:xfrm>
              <a:off x="5321520" y="1818000"/>
              <a:ext cx="836280" cy="851040"/>
              <a:chOff x="5321520" y="1818000"/>
              <a:chExt cx="836280" cy="851040"/>
            </a:xfrm>
          </p:grpSpPr>
          <p:sp>
            <p:nvSpPr>
              <p:cNvPr id="736" name="矩形 1"/>
              <p:cNvSpPr/>
              <p:nvPr/>
            </p:nvSpPr>
            <p:spPr>
              <a:xfrm>
                <a:off x="5321520" y="1818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36"/>
              <p:cNvSpPr/>
              <p:nvPr/>
            </p:nvSpPr>
            <p:spPr>
              <a:xfrm>
                <a:off x="5321520" y="2230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直接连接符 6"/>
              <p:cNvSpPr/>
              <p:nvPr/>
            </p:nvSpPr>
            <p:spPr>
              <a:xfrm>
                <a:off x="5739840" y="1831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组合 7"/>
            <p:cNvGrpSpPr/>
            <p:nvPr/>
          </p:nvGrpSpPr>
          <p:grpSpPr>
            <a:xfrm>
              <a:off x="2819520" y="2652840"/>
              <a:ext cx="836280" cy="851040"/>
              <a:chOff x="2819520" y="2652840"/>
              <a:chExt cx="836280" cy="851040"/>
            </a:xfrm>
          </p:grpSpPr>
          <p:sp>
            <p:nvSpPr>
              <p:cNvPr id="740" name="矩形 1"/>
              <p:cNvSpPr/>
              <p:nvPr/>
            </p:nvSpPr>
            <p:spPr>
              <a:xfrm>
                <a:off x="281952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直接连接符 40"/>
              <p:cNvSpPr/>
              <p:nvPr/>
            </p:nvSpPr>
            <p:spPr>
              <a:xfrm>
                <a:off x="281952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6"/>
              <p:cNvSpPr/>
              <p:nvPr/>
            </p:nvSpPr>
            <p:spPr>
              <a:xfrm>
                <a:off x="323784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2833560" y="26226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组合 43"/>
            <p:cNvGrpSpPr/>
            <p:nvPr/>
          </p:nvGrpSpPr>
          <p:grpSpPr>
            <a:xfrm>
              <a:off x="3654360" y="2652840"/>
              <a:ext cx="836280" cy="851040"/>
              <a:chOff x="3654360" y="2652840"/>
              <a:chExt cx="836280" cy="851040"/>
            </a:xfrm>
          </p:grpSpPr>
          <p:sp>
            <p:nvSpPr>
              <p:cNvPr id="745" name="矩形 1"/>
              <p:cNvSpPr/>
              <p:nvPr/>
            </p:nvSpPr>
            <p:spPr>
              <a:xfrm>
                <a:off x="365436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直接连接符 45"/>
              <p:cNvSpPr/>
              <p:nvPr/>
            </p:nvSpPr>
            <p:spPr>
              <a:xfrm>
                <a:off x="365436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直接连接符 6"/>
              <p:cNvSpPr/>
              <p:nvPr/>
            </p:nvSpPr>
            <p:spPr>
              <a:xfrm>
                <a:off x="407268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文本框 64"/>
            <p:cNvSpPr/>
            <p:nvPr/>
          </p:nvSpPr>
          <p:spPr>
            <a:xfrm>
              <a:off x="3668400" y="26226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组合 48"/>
            <p:cNvGrpSpPr/>
            <p:nvPr/>
          </p:nvGrpSpPr>
          <p:grpSpPr>
            <a:xfrm>
              <a:off x="4486680" y="2652840"/>
              <a:ext cx="836280" cy="851040"/>
              <a:chOff x="4486680" y="2652840"/>
              <a:chExt cx="836280" cy="851040"/>
            </a:xfrm>
          </p:grpSpPr>
          <p:sp>
            <p:nvSpPr>
              <p:cNvPr id="750" name="矩形 1"/>
              <p:cNvSpPr/>
              <p:nvPr/>
            </p:nvSpPr>
            <p:spPr>
              <a:xfrm>
                <a:off x="448668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直接连接符 50"/>
              <p:cNvSpPr/>
              <p:nvPr/>
            </p:nvSpPr>
            <p:spPr>
              <a:xfrm>
                <a:off x="448668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直接连接符 6"/>
              <p:cNvSpPr/>
              <p:nvPr/>
            </p:nvSpPr>
            <p:spPr>
              <a:xfrm>
                <a:off x="490500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52"/>
            <p:cNvGrpSpPr/>
            <p:nvPr/>
          </p:nvGrpSpPr>
          <p:grpSpPr>
            <a:xfrm>
              <a:off x="5321520" y="2652840"/>
              <a:ext cx="836280" cy="851040"/>
              <a:chOff x="5321520" y="2652840"/>
              <a:chExt cx="836280" cy="851040"/>
            </a:xfrm>
          </p:grpSpPr>
          <p:sp>
            <p:nvSpPr>
              <p:cNvPr id="754" name="矩形 1"/>
              <p:cNvSpPr/>
              <p:nvPr/>
            </p:nvSpPr>
            <p:spPr>
              <a:xfrm>
                <a:off x="5321520" y="265284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直接连接符 54"/>
              <p:cNvSpPr/>
              <p:nvPr/>
            </p:nvSpPr>
            <p:spPr>
              <a:xfrm>
                <a:off x="5321520" y="306504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6"/>
              <p:cNvSpPr/>
              <p:nvPr/>
            </p:nvSpPr>
            <p:spPr>
              <a:xfrm>
                <a:off x="5739840" y="266616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组合 7"/>
            <p:cNvGrpSpPr/>
            <p:nvPr/>
          </p:nvGrpSpPr>
          <p:grpSpPr>
            <a:xfrm>
              <a:off x="2819520" y="3483000"/>
              <a:ext cx="836280" cy="851040"/>
              <a:chOff x="2819520" y="3483000"/>
              <a:chExt cx="836280" cy="851040"/>
            </a:xfrm>
          </p:grpSpPr>
          <p:sp>
            <p:nvSpPr>
              <p:cNvPr id="758" name="矩形 1"/>
              <p:cNvSpPr/>
              <p:nvPr/>
            </p:nvSpPr>
            <p:spPr>
              <a:xfrm>
                <a:off x="281952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58"/>
              <p:cNvSpPr/>
              <p:nvPr/>
            </p:nvSpPr>
            <p:spPr>
              <a:xfrm>
                <a:off x="281952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6"/>
              <p:cNvSpPr/>
              <p:nvPr/>
            </p:nvSpPr>
            <p:spPr>
              <a:xfrm>
                <a:off x="323784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文本框 64"/>
            <p:cNvSpPr/>
            <p:nvPr/>
          </p:nvSpPr>
          <p:spPr>
            <a:xfrm>
              <a:off x="2833560" y="3452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组合 61"/>
            <p:cNvGrpSpPr/>
            <p:nvPr/>
          </p:nvGrpSpPr>
          <p:grpSpPr>
            <a:xfrm>
              <a:off x="3654360" y="3483000"/>
              <a:ext cx="836280" cy="851040"/>
              <a:chOff x="3654360" y="3483000"/>
              <a:chExt cx="836280" cy="851040"/>
            </a:xfrm>
          </p:grpSpPr>
          <p:sp>
            <p:nvSpPr>
              <p:cNvPr id="763" name="矩形 1"/>
              <p:cNvSpPr/>
              <p:nvPr/>
            </p:nvSpPr>
            <p:spPr>
              <a:xfrm>
                <a:off x="365436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63"/>
              <p:cNvSpPr/>
              <p:nvPr/>
            </p:nvSpPr>
            <p:spPr>
              <a:xfrm>
                <a:off x="365436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直接连接符 6"/>
              <p:cNvSpPr/>
              <p:nvPr/>
            </p:nvSpPr>
            <p:spPr>
              <a:xfrm>
                <a:off x="407268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文本框 64"/>
            <p:cNvSpPr/>
            <p:nvPr/>
          </p:nvSpPr>
          <p:spPr>
            <a:xfrm>
              <a:off x="3668400" y="345276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7171"/>
                  </a:solidFill>
                  <a:latin typeface="楷体"/>
                  <a:ea typeface="楷体"/>
                </a:rPr>
                <a:t>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组合 66"/>
            <p:cNvGrpSpPr/>
            <p:nvPr/>
          </p:nvGrpSpPr>
          <p:grpSpPr>
            <a:xfrm>
              <a:off x="4486680" y="3483000"/>
              <a:ext cx="836280" cy="851040"/>
              <a:chOff x="4486680" y="3483000"/>
              <a:chExt cx="836280" cy="851040"/>
            </a:xfrm>
          </p:grpSpPr>
          <p:sp>
            <p:nvSpPr>
              <p:cNvPr id="768" name="矩形 1"/>
              <p:cNvSpPr/>
              <p:nvPr/>
            </p:nvSpPr>
            <p:spPr>
              <a:xfrm>
                <a:off x="448668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直接连接符 68"/>
              <p:cNvSpPr/>
              <p:nvPr/>
            </p:nvSpPr>
            <p:spPr>
              <a:xfrm>
                <a:off x="448668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直接连接符 6"/>
              <p:cNvSpPr/>
              <p:nvPr/>
            </p:nvSpPr>
            <p:spPr>
              <a:xfrm>
                <a:off x="490500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70"/>
            <p:cNvGrpSpPr/>
            <p:nvPr/>
          </p:nvGrpSpPr>
          <p:grpSpPr>
            <a:xfrm>
              <a:off x="5321520" y="3483000"/>
              <a:ext cx="836280" cy="851040"/>
              <a:chOff x="5321520" y="3483000"/>
              <a:chExt cx="836280" cy="851040"/>
            </a:xfrm>
          </p:grpSpPr>
          <p:sp>
            <p:nvSpPr>
              <p:cNvPr id="772" name="矩形 1"/>
              <p:cNvSpPr/>
              <p:nvPr/>
            </p:nvSpPr>
            <p:spPr>
              <a:xfrm>
                <a:off x="5321520" y="348300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直接连接符 72"/>
              <p:cNvSpPr/>
              <p:nvPr/>
            </p:nvSpPr>
            <p:spPr>
              <a:xfrm>
                <a:off x="5321520" y="389520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6"/>
              <p:cNvSpPr/>
              <p:nvPr/>
            </p:nvSpPr>
            <p:spPr>
              <a:xfrm>
                <a:off x="5739840" y="34963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5" name="组合 77"/>
          <p:cNvGrpSpPr/>
          <p:nvPr/>
        </p:nvGrpSpPr>
        <p:grpSpPr>
          <a:xfrm>
            <a:off x="58680" y="2502000"/>
            <a:ext cx="2693880" cy="1984320"/>
            <a:chOff x="58680" y="2502000"/>
            <a:chExt cx="2693880" cy="1984320"/>
          </a:xfrm>
        </p:grpSpPr>
        <p:sp>
          <p:nvSpPr>
            <p:cNvPr id="776" name="云形标注 74"/>
            <p:cNvSpPr/>
            <p:nvPr/>
          </p:nvSpPr>
          <p:spPr>
            <a:xfrm>
              <a:off x="58680" y="2502000"/>
              <a:ext cx="2693880" cy="1984320"/>
            </a:xfrm>
            <a:prstGeom prst="cloudCallout">
              <a:avLst>
                <a:gd name="adj1" fmla="val 68643"/>
                <a:gd name="adj2" fmla="val -78189"/>
              </a:avLst>
            </a:prstGeom>
            <a:solidFill>
              <a:srgbClr val="ffffff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76"/>
            <p:cNvSpPr/>
            <p:nvPr/>
          </p:nvSpPr>
          <p:spPr>
            <a:xfrm>
              <a:off x="366840" y="2737440"/>
              <a:ext cx="230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的字左右两边宽窄大致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80"/>
          <p:cNvGrpSpPr/>
          <p:nvPr/>
        </p:nvGrpSpPr>
        <p:grpSpPr>
          <a:xfrm>
            <a:off x="6238800" y="1057320"/>
            <a:ext cx="2905200" cy="2200320"/>
            <a:chOff x="6238800" y="1057320"/>
            <a:chExt cx="2905200" cy="2200320"/>
          </a:xfrm>
        </p:grpSpPr>
        <p:sp>
          <p:nvSpPr>
            <p:cNvPr id="779" name="云形标注 75"/>
            <p:cNvSpPr/>
            <p:nvPr/>
          </p:nvSpPr>
          <p:spPr>
            <a:xfrm>
              <a:off x="6238800" y="1057320"/>
              <a:ext cx="2905200" cy="2200320"/>
            </a:xfrm>
            <a:prstGeom prst="cloudCallout">
              <a:avLst>
                <a:gd name="adj1" fmla="val -95925"/>
                <a:gd name="adj2" fmla="val 39824"/>
              </a:avLst>
            </a:prstGeom>
            <a:solidFill>
              <a:srgbClr val="ffffff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78"/>
            <p:cNvSpPr/>
            <p:nvPr/>
          </p:nvSpPr>
          <p:spPr>
            <a:xfrm>
              <a:off x="6574320" y="1246320"/>
              <a:ext cx="25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看后写，才能减少修改次数，保持页面整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圆角矩形 12"/>
          <p:cNvSpPr/>
          <p:nvPr/>
        </p:nvSpPr>
        <p:spPr>
          <a:xfrm>
            <a:off x="5985000" y="1292400"/>
            <a:ext cx="2666880" cy="31636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23">
                <a:moveTo>
                  <a:pt x="3600" y="0"/>
                </a:moveTo>
                <a:arcTo wR="3600" hR="3600" stAng="16200000" swAng="-5400000"/>
                <a:lnTo>
                  <a:pt x="0" y="22023"/>
                </a:lnTo>
                <a:arcTo wR="3600" hR="3600" stAng="10800000" swAng="-5400000"/>
                <a:lnTo>
                  <a:pt x="18000" y="2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圆角矩形 10"/>
          <p:cNvSpPr/>
          <p:nvPr/>
        </p:nvSpPr>
        <p:spPr>
          <a:xfrm>
            <a:off x="3166920" y="1292400"/>
            <a:ext cx="2665440" cy="316368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37">
                <a:moveTo>
                  <a:pt x="3600" y="0"/>
                </a:moveTo>
                <a:arcTo wR="3600" hR="3600" stAng="16200000" swAng="-5400000"/>
                <a:lnTo>
                  <a:pt x="0" y="22037"/>
                </a:lnTo>
                <a:arcTo wR="3600" hR="3600" stAng="10800000" swAng="-5400000"/>
                <a:lnTo>
                  <a:pt x="18000" y="25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648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1"/>
          <p:cNvSpPr/>
          <p:nvPr/>
        </p:nvSpPr>
        <p:spPr>
          <a:xfrm>
            <a:off x="366840" y="1292400"/>
            <a:ext cx="2666880" cy="31636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163680"/>
              <a:gd name="textAreaBottom" fmla="*/ 3033720 h 3163680"/>
            </a:gdLst>
            <a:ahLst/>
            <a:rect l="textAreaLeft" t="textAreaTop" r="textAreaRight" b="textAreaBottom"/>
            <a:pathLst>
              <a:path w="21600" h="25623">
                <a:moveTo>
                  <a:pt x="3600" y="0"/>
                </a:moveTo>
                <a:arcTo wR="3600" hR="3600" stAng="16200000" swAng="-5400000"/>
                <a:lnTo>
                  <a:pt x="0" y="22023"/>
                </a:lnTo>
                <a:arcTo wR="3600" hR="3600" stAng="10800000" swAng="-5400000"/>
                <a:lnTo>
                  <a:pt x="18000" y="2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366840" y="376200"/>
            <a:ext cx="2388960" cy="585720"/>
          </a:xfrm>
          <a:prstGeom prst="rect">
            <a:avLst/>
          </a:prstGeom>
          <a:ln w="0">
            <a:noFill/>
          </a:ln>
        </p:spPr>
      </p:pic>
      <p:sp>
        <p:nvSpPr>
          <p:cNvPr id="785" name="矩形 4"/>
          <p:cNvSpPr/>
          <p:nvPr/>
        </p:nvSpPr>
        <p:spPr>
          <a:xfrm>
            <a:off x="747720" y="1693800"/>
            <a:ext cx="793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狼吞虎咽  惊弓之鸟  胆小如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龙飞凤舞  漏网之鱼  如虎添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鸡鸣狗吠  害群之马  如鱼得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5"/>
          <p:cNvSpPr/>
          <p:nvPr/>
        </p:nvSpPr>
        <p:spPr>
          <a:xfrm>
            <a:off x="660240" y="1414440"/>
            <a:ext cx="78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lá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tūn hǔ  y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n    jī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ō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zhī niǎo    dǎn xiǎo rú sh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6"/>
          <p:cNvSpPr/>
          <p:nvPr/>
        </p:nvSpPr>
        <p:spPr>
          <a:xfrm>
            <a:off x="595440" y="2395440"/>
            <a:ext cx="77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ló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fēi fè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wǔ      lòu wǎ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zhī yú      rú  hǔ tiān y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787320" y="3382920"/>
            <a:ext cx="78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jī mí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ǒu fèi     hài qún zhī  mǎ       rú  yú  dé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13"/>
          <p:cNvGrpSpPr/>
          <p:nvPr/>
        </p:nvGrpSpPr>
        <p:grpSpPr>
          <a:xfrm>
            <a:off x="2887560" y="122400"/>
            <a:ext cx="4049640" cy="1170000"/>
            <a:chOff x="2887560" y="122400"/>
            <a:chExt cx="4049640" cy="1170000"/>
          </a:xfrm>
        </p:grpSpPr>
        <p:sp>
          <p:nvSpPr>
            <p:cNvPr id="790" name="圆角矩形标注 11"/>
            <p:cNvSpPr/>
            <p:nvPr/>
          </p:nvSpPr>
          <p:spPr>
            <a:xfrm>
              <a:off x="2887560" y="122400"/>
              <a:ext cx="4049640" cy="1170000"/>
            </a:xfrm>
            <a:prstGeom prst="wedgeRoundRectCallout">
              <a:avLst>
                <a:gd name="adj1" fmla="val 28199"/>
                <a:gd name="adj2" fmla="val 82087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c2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12"/>
            <p:cNvSpPr/>
            <p:nvPr/>
          </p:nvSpPr>
          <p:spPr>
            <a:xfrm>
              <a:off x="2949480" y="131760"/>
              <a:ext cx="37929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这三组成语都是带有动物名称的四字成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420840" y="846000"/>
            <a:ext cx="8486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狼吞虎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形容吃东西又猛又急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龙飞凤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形容山势的蜿蜒雄壮，后也形容书法笔势有力，灵活舒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鸡鸣狗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鸡啼狗叫彼此都听得到，比喻聚居在一处的人口稠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1"/>
          <p:cNvSpPr/>
          <p:nvPr/>
        </p:nvSpPr>
        <p:spPr>
          <a:xfrm>
            <a:off x="588960" y="685800"/>
            <a:ext cx="80136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惊弓之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被弓箭吓怕了的鸟，比喻受过惊吓的人碰到一点动静就非常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漏网之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逃脱鱼网的鱼，比喻侥幸逃脱的罪犯或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害群之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危害马群的劣马，比喻危害社会或集体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矩形 1"/>
          <p:cNvSpPr/>
          <p:nvPr/>
        </p:nvSpPr>
        <p:spPr>
          <a:xfrm>
            <a:off x="581040" y="549360"/>
            <a:ext cx="82580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胆小如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胆子小得像老鼠，比喻十分胆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虎添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好像老虎长上了翅膀，比喻强有力的人得到帮助变得更加强有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如鱼得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好像鱼遇到水一样，比喻遇到跟自己十分投合的人或对自己很合适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496800" y="355680"/>
            <a:ext cx="2216160" cy="519120"/>
          </a:xfrm>
          <a:prstGeom prst="rect">
            <a:avLst/>
          </a:prstGeom>
          <a:ln w="0">
            <a:noFill/>
          </a:ln>
        </p:spPr>
      </p:pic>
      <p:grpSp>
        <p:nvGrpSpPr>
          <p:cNvPr id="796" name="组合 5"/>
          <p:cNvGrpSpPr/>
          <p:nvPr/>
        </p:nvGrpSpPr>
        <p:grpSpPr>
          <a:xfrm>
            <a:off x="1736640" y="739800"/>
            <a:ext cx="5388120" cy="3924360"/>
            <a:chOff x="1736640" y="739800"/>
            <a:chExt cx="5388120" cy="3924360"/>
          </a:xfrm>
        </p:grpSpPr>
        <p:sp>
          <p:nvSpPr>
            <p:cNvPr id="797" name="矩形 2"/>
            <p:cNvSpPr/>
            <p:nvPr/>
          </p:nvSpPr>
          <p:spPr>
            <a:xfrm>
              <a:off x="1736640" y="739800"/>
              <a:ext cx="5388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称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原文略，见教材第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页）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8" name="图片 4" descr=""/>
            <p:cNvPicPr/>
            <p:nvPr/>
          </p:nvPicPr>
          <p:blipFill>
            <a:blip r:embed="rId2"/>
            <a:srcRect l="0" t="0" r="0" b="12586"/>
            <a:stretch/>
          </p:blipFill>
          <p:spPr>
            <a:xfrm>
              <a:off x="2803320" y="2319120"/>
              <a:ext cx="3576960" cy="234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784080" y="303120"/>
            <a:ext cx="2576520" cy="568440"/>
          </a:xfrm>
          <a:prstGeom prst="rect">
            <a:avLst/>
          </a:prstGeom>
          <a:ln w="0">
            <a:noFill/>
          </a:ln>
        </p:spPr>
      </p:pic>
      <p:sp>
        <p:nvSpPr>
          <p:cNvPr id="800" name="矩形 2"/>
          <p:cNvSpPr/>
          <p:nvPr/>
        </p:nvSpPr>
        <p:spPr>
          <a:xfrm>
            <a:off x="934920" y="988920"/>
            <a:ext cx="7905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粗糙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质料）不精细；不光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称赞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言语表达对人或事物的优点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自信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己相信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能干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才能，会办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疲劳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体力或脑力消耗过多而需要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矩形 1"/>
          <p:cNvSpPr/>
          <p:nvPr/>
        </p:nvSpPr>
        <p:spPr>
          <a:xfrm>
            <a:off x="347760" y="689040"/>
            <a:ext cx="84423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称赞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这篇课文告诉了我们一个怎样的道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2"/>
          <p:cNvSpPr/>
          <p:nvPr/>
        </p:nvSpPr>
        <p:spPr>
          <a:xfrm>
            <a:off x="701640" y="1328760"/>
            <a:ext cx="7991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称赞能给予我们神奇的力量，带给我们无尽的快乐。所以在生活中，我们要善于去发现别人身上的优点，给予周围人更多的称赞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C:\Users\Administrator\Desktop\识字加油站.tif"/>
          <p:cNvPicPr/>
          <p:nvPr/>
        </p:nvPicPr>
        <p:blipFill>
          <a:blip r:embed="rId1"/>
          <a:stretch/>
        </p:blipFill>
        <p:spPr>
          <a:xfrm>
            <a:off x="2090880" y="162000"/>
            <a:ext cx="2557440" cy="48564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0"/>
          <p:cNvSpPr/>
          <p:nvPr/>
        </p:nvSpPr>
        <p:spPr>
          <a:xfrm>
            <a:off x="3714840" y="1352520"/>
            <a:ext cx="497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狼     猩猩    海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白鹤   鸽子    羚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蚯蚓   螃蟹    蝴蝶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蚕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0"/>
          <p:cNvSpPr/>
          <p:nvPr/>
        </p:nvSpPr>
        <p:spPr>
          <a:xfrm>
            <a:off x="546120" y="711360"/>
            <a:ext cx="7886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试着给下面的动物分类，看看谁的分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"/>
          <p:cNvPicPr/>
          <p:nvPr/>
        </p:nvPicPr>
        <p:blipFill>
          <a:blip r:embed="rId2"/>
          <a:stretch/>
        </p:blipFill>
        <p:spPr>
          <a:xfrm>
            <a:off x="71280" y="1222200"/>
            <a:ext cx="364824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656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6480">
              <a:solidFill>
                <a:srgbClr val="ff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99ff99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Box 6"/>
          <p:cNvSpPr/>
          <p:nvPr/>
        </p:nvSpPr>
        <p:spPr>
          <a:xfrm>
            <a:off x="461880" y="18511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9"/>
          <p:cNvSpPr/>
          <p:nvPr/>
        </p:nvSpPr>
        <p:spPr>
          <a:xfrm>
            <a:off x="416520" y="131616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lá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4606920" y="18622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3"/>
          <p:cNvSpPr/>
          <p:nvPr/>
        </p:nvSpPr>
        <p:spPr>
          <a:xfrm>
            <a:off x="4633920" y="125748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xī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5" descr="http://pic2.ooopic.com/13/87/57/35b1OOOPIC77.jpg"/>
          <p:cNvPicPr/>
          <p:nvPr/>
        </p:nvPicPr>
        <p:blipFill>
          <a:blip r:embed="rId1"/>
          <a:stretch/>
        </p:blipFill>
        <p:spPr>
          <a:xfrm>
            <a:off x="2160720" y="1585800"/>
            <a:ext cx="1792080" cy="1976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7" descr="http://bpic.588ku.com/element_pic/16/11/23/825f6c2bf50afa57beece52cb8e17f0f.jpg"/>
          <p:cNvPicPr/>
          <p:nvPr/>
        </p:nvPicPr>
        <p:blipFill>
          <a:blip r:embed="rId2"/>
          <a:stretch/>
        </p:blipFill>
        <p:spPr>
          <a:xfrm>
            <a:off x="6049800" y="1384200"/>
            <a:ext cx="2613240" cy="26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6"/>
          <p:cNvSpPr/>
          <p:nvPr/>
        </p:nvSpPr>
        <p:spPr>
          <a:xfrm>
            <a:off x="1768320" y="1638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2"/>
          <p:cNvSpPr/>
          <p:nvPr/>
        </p:nvSpPr>
        <p:spPr>
          <a:xfrm>
            <a:off x="1971360" y="1123920"/>
            <a:ext cx="87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7" descr="http://www.jpcai.com/upfiles/photo/200606/20060624181014724.jpg"/>
          <p:cNvPicPr/>
          <p:nvPr/>
        </p:nvPicPr>
        <p:blipFill>
          <a:blip r:embed="rId1"/>
          <a:stretch/>
        </p:blipFill>
        <p:spPr>
          <a:xfrm>
            <a:off x="3510000" y="579600"/>
            <a:ext cx="2887560" cy="36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6"/>
          <p:cNvSpPr/>
          <p:nvPr/>
        </p:nvSpPr>
        <p:spPr>
          <a:xfrm>
            <a:off x="763560" y="199224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9"/>
          <p:cNvSpPr/>
          <p:nvPr/>
        </p:nvSpPr>
        <p:spPr>
          <a:xfrm>
            <a:off x="917640" y="13636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6"/>
          <p:cNvSpPr/>
          <p:nvPr/>
        </p:nvSpPr>
        <p:spPr>
          <a:xfrm>
            <a:off x="4264200" y="20001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13"/>
          <p:cNvSpPr/>
          <p:nvPr/>
        </p:nvSpPr>
        <p:spPr>
          <a:xfrm>
            <a:off x="4348800" y="1371600"/>
            <a:ext cx="12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lí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8" descr="http://www.qqmofasi.com/data/attachments/2014/06/03/78_DER6kk4k6K8AI7TVp7a7_large.jpg"/>
          <p:cNvPicPr/>
          <p:nvPr/>
        </p:nvPicPr>
        <p:blipFill>
          <a:blip r:embed="rId1"/>
          <a:srcRect l="7074" t="0" r="26746" b="0"/>
          <a:stretch/>
        </p:blipFill>
        <p:spPr>
          <a:xfrm>
            <a:off x="2317680" y="1706400"/>
            <a:ext cx="1765440" cy="1600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9" descr=""/>
          <p:cNvPicPr/>
          <p:nvPr/>
        </p:nvPicPr>
        <p:blipFill>
          <a:blip r:embed="rId2"/>
          <a:srcRect l="0" t="0" r="9102" b="0"/>
          <a:stretch/>
        </p:blipFill>
        <p:spPr>
          <a:xfrm>
            <a:off x="5850000" y="1463760"/>
            <a:ext cx="29192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6"/>
          <p:cNvSpPr/>
          <p:nvPr/>
        </p:nvSpPr>
        <p:spPr>
          <a:xfrm>
            <a:off x="865080" y="19432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2"/>
          <p:cNvSpPr/>
          <p:nvPr/>
        </p:nvSpPr>
        <p:spPr>
          <a:xfrm>
            <a:off x="933840" y="1366920"/>
            <a:ext cx="107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q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2478240" y="194328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6"/>
          <p:cNvSpPr/>
          <p:nvPr/>
        </p:nvSpPr>
        <p:spPr>
          <a:xfrm>
            <a:off x="2565360" y="1366920"/>
            <a:ext cx="103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yǐ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7" descr="http://www.bytmodel.com/images/nfwwcz3ffz2hk4djmfxdcmjufzrw63i/20120716/02551180.jpg"/>
          <p:cNvPicPr/>
          <p:nvPr/>
        </p:nvPicPr>
        <p:blipFill>
          <a:blip r:embed="rId1"/>
          <a:srcRect l="0" t="0" r="0" b="7401"/>
          <a:stretch/>
        </p:blipFill>
        <p:spPr>
          <a:xfrm>
            <a:off x="4095720" y="1244520"/>
            <a:ext cx="362592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6"/>
          <p:cNvSpPr/>
          <p:nvPr/>
        </p:nvSpPr>
        <p:spPr>
          <a:xfrm>
            <a:off x="1738440" y="186516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螃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9"/>
          <p:cNvSpPr/>
          <p:nvPr/>
        </p:nvSpPr>
        <p:spPr>
          <a:xfrm>
            <a:off x="1552320" y="1243080"/>
            <a:ext cx="25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pánɡ xi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http://www.qqmofasi.com/data/attachments/2015/02/10/2_PBweOnjg0jqf5zpNJ5J7_large.jpg"/>
          <p:cNvPicPr/>
          <p:nvPr/>
        </p:nvPicPr>
        <p:blipFill>
          <a:blip r:embed="rId1"/>
          <a:stretch/>
        </p:blipFill>
        <p:spPr>
          <a:xfrm>
            <a:off x="4522680" y="1406520"/>
            <a:ext cx="3549600" cy="23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6"/>
          <p:cNvSpPr/>
          <p:nvPr/>
        </p:nvSpPr>
        <p:spPr>
          <a:xfrm>
            <a:off x="1538280" y="1865160"/>
            <a:ext cx="15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9"/>
          <p:cNvSpPr/>
          <p:nvPr/>
        </p:nvSpPr>
        <p:spPr>
          <a:xfrm>
            <a:off x="1537920" y="124308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c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http://lywb.lyd.com.cn/images/2012-06/19/1340060487484JY6B619C002_b.jpg"/>
          <p:cNvPicPr/>
          <p:nvPr/>
        </p:nvPicPr>
        <p:blipFill>
          <a:blip r:embed="rId1"/>
          <a:stretch/>
        </p:blipFill>
        <p:spPr>
          <a:xfrm>
            <a:off x="3265560" y="1557360"/>
            <a:ext cx="2948040" cy="22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0"/>
          <p:cNvSpPr/>
          <p:nvPr/>
        </p:nvSpPr>
        <p:spPr>
          <a:xfrm>
            <a:off x="944640" y="608040"/>
            <a:ext cx="144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天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地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1"/>
          <p:cNvSpPr/>
          <p:nvPr/>
        </p:nvSpPr>
        <p:spPr>
          <a:xfrm>
            <a:off x="2878920" y="10047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白鹤   鸽子   蝴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6"/>
          <p:cNvSpPr/>
          <p:nvPr/>
        </p:nvSpPr>
        <p:spPr>
          <a:xfrm>
            <a:off x="3018600" y="206208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狼  猩猩   羚羊  蚯蚓  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7"/>
          <p:cNvSpPr/>
          <p:nvPr/>
        </p:nvSpPr>
        <p:spPr>
          <a:xfrm>
            <a:off x="2877480" y="3121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海龟    螃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>声  明
 本文件仅用于个人学习、研究或欣赏，以及其他非商业性或非盈利性用途，但同时应遵守著作权法及其他相关法律的规定，不得侵犯本司及相关权利人的合法权利。
 除此以外，将本文件任何内容用于其他用途时，应获得授权，如发现未经授权用于商业或盈利用途将追加侵权者的法律责任。
武汉天成贵龙文化传播有限公司</dc:description>
  <cp:keywords>状元成才路</cp:keywords>
  <dc:language>en-US</dc:language>
  <cp:lastModifiedBy>万润仪器贸易公司</cp:lastModifiedBy>
  <dcterms:modified xsi:type="dcterms:W3CDTF">2020-08-19T00:45:02Z</dcterms:modified>
  <cp:revision>312</cp:revision>
  <dc:subject>状元成才路</dc:subject>
  <dc:title>状元成才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